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907D-CCC8-4F0F-84E8-9449D498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886-0094-477F-A575-DF11A331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518A-1B36-47DB-A115-9CF139E1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55E-9727-47E1-8258-DD4493FC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FFD-1904-4387-8165-C2AED298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15F3-6121-4CEB-8379-3F719C90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1F5-3633-4ECF-8766-ED7A89AB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4D0-CEF1-4CFD-8AE2-3B21D89E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564-9A88-462A-83BE-C6358B1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697-5C7A-4F1A-92E5-ADD864AB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EAE-1032-4091-88D6-B5B79E4A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F2D-090A-4DCA-8623-A76404B9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B9F3-AE71-4014-8CB2-6269BBA75ED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E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OOPERATİF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ÜYE OLD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ZİM SINIF, ÜÇÜNCÜ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ATT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DUYAMAZSINIZ SİZ KUŞLARIN SESİNİ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ÇOCUĞUN BURNU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ANAD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U KİTAP, BULUNMAZ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R KAYNAKTIR.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LİM KURGU FİLMİN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İTTİ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VİRAJLI BİR YOLDA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GEÇTİ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UYAR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İŞARETİNE DİKKAT E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ZAVALL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DAMI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KİMSESİ YOKMU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LETÇİ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VAZ AVAZ BAĞIRIYORD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SINAV KAYGISI YAŞATI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YÜZÜĞÜ KÜÇÜK ÇEKMECEYE BIRAKT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000000"/>
                </a:solidFill>
                <a:latin typeface="Arial"/>
              </a:rPr>
              <a:t>SARI LALELER ALDIM ÇİÇEK PAZARINDAN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DUALAR GİBİ YÜKSELİR, ÜMİTLERİ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ÖZEL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R ÇİÇEK YAPTIRD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ANNELER,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BİRE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Arial"/>
              </a:rPr>
              <a:t>MELEKTİ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1-01T21:44:30Z</dcterms:modified>
  <cp:revision>89</cp:revision>
  <dc:subject/>
  <dc:title>KONU 1</dc:title>
</cp:coreProperties>
</file>